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2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543-76DF-46AA-B205-806F1444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8C2-11BD-4EA2-90C4-F76DB2C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A62-5B29-47F7-87AE-3F72810D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35E-4125-4659-91A8-6CBEBAFB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0F7-3C74-44DA-BB1A-F0AE8279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1F09-DFD3-4065-9EBA-BA8F95E8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37C-C36F-44C6-BF4D-DF7142A4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C35-5FD2-4260-B66D-2BA7BD88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D64-E405-46C6-AF65-CC39B38F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194-5262-4907-9BBE-9B3502D0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EDF-BA3C-4C87-B196-DD586073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0FD-743F-4CD2-96E1-5C9C7327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5EFE-34D0-4459-8DF8-4BF4DAC84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hrishiggins.com/blog/archives/images/welches_leaves_single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hyperlink" Target="http://epod.usra.edu/archive/images/egg_mass.jpg" TargetMode="External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1.trekearth.com/photos/21728/60_plant4469acorn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kevingong.com/Hiking/Images/200403ArastaderoPreserve/02x02OakTree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hyperlink" Target="http://www.lethamshank.co.uk/Gallery/gal/Crops/Misc/oat_seed.jpg" TargetMode="External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faculty.clintoncc.suny.edu/faculty/Michael.Gregory/files/Bio%20102/Bio%20102%20lectures/animal%20cells%20and%20tissues/wpeE.jpg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izyka.phys.put.poznan.pl/~pieransk/Physics%20Around%20Us/Rain%20drops%2002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fizyka.phys.put.poznan.pl/~pieransk/Physics%20Around%20Us/Rain%20drops%2002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99"/>
                </a:solidFill>
                <a:latin typeface="Times New Roman"/>
              </a:rPr>
              <a:t>Living, Non-living and Dead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 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imals breath with lungs, gills or sk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breath through lu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 breath through g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ms breath through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eathe” = Respiration = exchange g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lants Breath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welches_leaves_sing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05120"/>
            <a:ext cx="3353040" cy="2506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5114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ts breathe through holes in their le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holes are called stom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nimals G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Domestic Chicken (Gallus gallus)"/>
          <p:cNvPicPr/>
          <p:nvPr/>
        </p:nvPicPr>
        <p:blipFill>
          <a:blip r:embed="rId1"/>
          <a:stretch/>
        </p:blipFill>
        <p:spPr>
          <a:xfrm>
            <a:off x="762120" y="1676520"/>
            <a:ext cx="2009520" cy="200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Domestic Chicken (Gallus gallus)"/>
          <p:cNvPicPr/>
          <p:nvPr/>
        </p:nvPicPr>
        <p:blipFill>
          <a:blip r:embed="rId2"/>
          <a:srcRect l="15487" t="16207" r="12631" b="15886"/>
          <a:stretch/>
        </p:blipFill>
        <p:spPr>
          <a:xfrm>
            <a:off x="2895480" y="16765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15000" y="1676520"/>
            <a:ext cx="2305080" cy="225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rcRect l="0" t="14276" r="16094" b="27186"/>
          <a:stretch/>
        </p:blipFill>
        <p:spPr>
          <a:xfrm>
            <a:off x="2438280" y="4876920"/>
            <a:ext cx="357516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019920" y="4495680"/>
            <a:ext cx="2552760" cy="205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Today's Earth Science Picture of the Day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4267080"/>
            <a:ext cx="2743200" cy="2173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38280" y="1905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905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4876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800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d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lants G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943280"/>
            <a:ext cx="2438280" cy="1838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67652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Oak Sapling"/>
          <p:cNvPicPr/>
          <p:nvPr/>
        </p:nvPicPr>
        <p:blipFill>
          <a:blip r:embed="rId5"/>
          <a:stretch/>
        </p:blipFill>
        <p:spPr>
          <a:xfrm>
            <a:off x="3429000" y="1676520"/>
            <a:ext cx="1581120" cy="238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4267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Oat Seed"/>
          <p:cNvPicPr/>
          <p:nvPr/>
        </p:nvPicPr>
        <p:blipFill>
          <a:blip r:embed="rId8"/>
          <a:stretch/>
        </p:blipFill>
        <p:spPr>
          <a:xfrm>
            <a:off x="3352680" y="4495680"/>
            <a:ext cx="147816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5105520" y="4419720"/>
            <a:ext cx="2133360" cy="1946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5867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943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grow by making cells bigger; some things grow by adding cel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grow by adding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s grow by adding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Living things Reprod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354480" cy="2982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01132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733920" y="3581280"/>
            <a:ext cx="287640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produce is to make bab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ls reproduce sex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xually needs a partner (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lants and cells reproduce asex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xually means alone (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da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140000" cy="3103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dapt is to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bbit adapts to the snow by being white.  It also has padded f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sh adapts to the water by breathing with gills.  It also has fin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adapt to temperature by changing clo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identify the characteristics of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114800" cy="2309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wpeE.jpg (87659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3019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5181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are the smallest living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iving things are made of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different kinds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can only come from other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Dead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Were once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Do not have the characteristics of lif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Non-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Were never alive or went through a process to become non-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Rain drops 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886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477120" y="31240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6095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6172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486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Minnesota State Flower - Pink &amp; White Showy Lady Slipper"/>
          <p:cNvPicPr/>
          <p:nvPr/>
        </p:nvPicPr>
        <p:blipFill>
          <a:blip r:embed="rId1"/>
          <a:stretch/>
        </p:blipFill>
        <p:spPr>
          <a:xfrm>
            <a:off x="3048120" y="1676520"/>
            <a:ext cx="2857320" cy="4286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81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y lady sli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Ice splashes from black-streaked glacier into Alaskan waters"/>
          <p:cNvPicPr/>
          <p:nvPr/>
        </p:nvPicPr>
        <p:blipFill>
          <a:blip r:embed="rId1"/>
          <a:stretch/>
        </p:blipFill>
        <p:spPr>
          <a:xfrm>
            <a:off x="2057400" y="2057400"/>
            <a:ext cx="4876920" cy="3317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8120" y="5486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410360" cy="3305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962520" y="5562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6" name="" descr="Chains of nearly-spherical bacteria"/>
          <p:cNvPicPr/>
          <p:nvPr/>
        </p:nvPicPr>
        <p:blipFill>
          <a:blip r:embed="rId1"/>
          <a:stretch/>
        </p:blipFill>
        <p:spPr>
          <a:xfrm>
            <a:off x="1828800" y="2286000"/>
            <a:ext cx="5181480" cy="3306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24080" y="5638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724280" cy="3546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24080" y="571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ing is BIO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” means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ving is ABIO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” means with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114800" cy="340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124080" y="5562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610080" cy="4286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81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S this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Digi Calculator"/>
          <p:cNvPicPr/>
          <p:nvPr/>
        </p:nvPicPr>
        <p:blipFill>
          <a:blip r:embed="rId1"/>
          <a:stretch/>
        </p:blipFill>
        <p:spPr>
          <a:xfrm>
            <a:off x="2362320" y="2286000"/>
            <a:ext cx="4724280" cy="365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481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oti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ings in this pictur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ioti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ings in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characteristics of lif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difference between biotic and abiotic thing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5 things you see in the classroom that are biot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5 things you see in the classroom that are abiot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Living thing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at = metabo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reathe =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de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nimals Ea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1863720" cy="19206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4695840" y="31721400"/>
            <a:ext cx="463680" cy="5965920"/>
            <a:chOff x="4695840" y="31721400"/>
            <a:chExt cx="463680" cy="5965920"/>
          </a:xfrm>
        </p:grpSpPr>
        <p:grpSp>
          <p:nvGrpSpPr>
            <p:cNvPr id="53" name=""/>
            <p:cNvGrpSpPr/>
            <p:nvPr/>
          </p:nvGrpSpPr>
          <p:grpSpPr>
            <a:xfrm>
              <a:off x="4699080" y="31724640"/>
              <a:ext cx="457200" cy="5959440"/>
              <a:chOff x="4699080" y="31724640"/>
              <a:chExt cx="457200" cy="5959440"/>
            </a:xfrm>
          </p:grpSpPr>
          <p:sp>
            <p:nvSpPr>
              <p:cNvPr id="54" name=""/>
              <p:cNvSpPr/>
              <p:nvPr/>
            </p:nvSpPr>
            <p:spPr>
              <a:xfrm>
                <a:off x="4699080" y="31724640"/>
                <a:ext cx="457200" cy="595944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6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99080" y="31724640"/>
                <a:ext cx="457200" cy="5959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4695840" y="31721400"/>
              <a:ext cx="463680" cy="596592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67200" y="31770720"/>
            <a:ext cx="3921120" cy="573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2793960" cy="408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09880" y="4038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095880" y="1828800"/>
            <a:ext cx="226404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248520" y="5410080"/>
            <a:ext cx="163836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s eat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s are car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nivores eat me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s eat h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s are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bivores eat pl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ks eat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ks are para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sites live off hos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humans eat plants an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s are omn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mnivores eat both plants and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lants ea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8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Rain drops 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895480" y="31240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s “eat” sun, water and di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 has minerals and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nimals Breath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3151080" cy="297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1303" t="0" r="0" b="0"/>
          <a:stretch/>
        </p:blipFill>
        <p:spPr>
          <a:xfrm>
            <a:off x="5105520" y="2057400"/>
            <a:ext cx="3097080" cy="2619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10806" t="34251" r="5546" b="18571"/>
          <a:stretch/>
        </p:blipFill>
        <p:spPr>
          <a:xfrm>
            <a:off x="2362320" y="4648320"/>
            <a:ext cx="472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0:43:38Z</dcterms:created>
  <dc:creator>sada</dc:creator>
  <dc:description/>
  <dc:language>en-US</dc:language>
  <cp:lastModifiedBy>SGANSK</cp:lastModifiedBy>
  <dcterms:modified xsi:type="dcterms:W3CDTF">2009-09-10T20:09:52Z</dcterms:modified>
  <cp:revision>18</cp:revision>
  <dc:subject/>
  <dc:title>Living, Non-living and Dead</dc:title>
</cp:coreProperties>
</file>